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0638" cy="10691813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57E-0CC6-4CF3-A4E3-1ECC1A7C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388792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720" y="6180120"/>
            <a:ext cx="388792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720-4D2B-4F57-83AD-FC49391A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276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720" y="618012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2760" y="618012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F47B-9194-4C8E-86B7-AAA66548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6120" y="249516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1520" y="249516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720" y="618012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6120" y="618012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1520" y="618012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470A-C02D-448A-A0F7-2E1722C2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720" y="2495160"/>
            <a:ext cx="38879280" cy="70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76"/>
              </a:spcBef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839-9AF4-4AED-B578-89457F08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388792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5CB2-6509-4EBD-B03B-0E0759B3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89730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2760" y="2495160"/>
            <a:ext cx="189730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FAA-134E-43C7-B804-C2205EC9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1789-3ED7-4164-8B97-E37221F1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720" y="428400"/>
            <a:ext cx="388792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76"/>
              </a:spcBef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9AE-5FC4-4E6E-AC3D-9B214A91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2760" y="2495160"/>
            <a:ext cx="189730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720" y="618012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AFB5-921D-4C8D-A563-1694242C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89730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276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2760" y="618012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AAC-C3B9-449A-A96C-A6581CA1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276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720" y="6180120"/>
            <a:ext cx="388792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10D-6433-451B-B5D3-B3D79ECC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720" y="428400"/>
            <a:ext cx="3887928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en-US" sz="1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720" y="2495160"/>
            <a:ext cx="388792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50000"/>
          </a:bodyPr>
          <a:p>
            <a:pPr marL="576000" indent="-576000">
              <a:spcBef>
                <a:spcPts val="2676"/>
              </a:spcBef>
              <a:buClr>
                <a:srgbClr val="000000"/>
              </a:buClr>
              <a:buFont typeface="Arial"/>
              <a:buChar char="•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1" marL="1249920" indent="-480240">
              <a:spcBef>
                <a:spcPts val="2676"/>
              </a:spcBef>
              <a:buClr>
                <a:srgbClr val="000000"/>
              </a:buClr>
              <a:buFont typeface="Arial"/>
              <a:buChar char="–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2" marL="1923840" indent="-384120">
              <a:spcBef>
                <a:spcPts val="2676"/>
              </a:spcBef>
              <a:buClr>
                <a:srgbClr val="000000"/>
              </a:buClr>
              <a:buFont typeface="Arial"/>
              <a:buChar char="•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3" marL="2693880" indent="-384120">
              <a:spcBef>
                <a:spcPts val="2676"/>
              </a:spcBef>
              <a:buClr>
                <a:srgbClr val="000000"/>
              </a:buClr>
              <a:buFont typeface="Arial"/>
              <a:buChar char="–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4" marL="3463920" indent="-384120">
              <a:spcBef>
                <a:spcPts val="2676"/>
              </a:spcBef>
              <a:buClr>
                <a:srgbClr val="000000"/>
              </a:buClr>
              <a:buFont typeface="Arial"/>
              <a:buChar char="»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5" marL="3463920" indent="-384120">
              <a:spcBef>
                <a:spcPts val="2676"/>
              </a:spcBef>
              <a:buClr>
                <a:srgbClr val="000000"/>
              </a:buClr>
              <a:buFont typeface="Arial"/>
              <a:buChar char="»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6" marL="3463920" indent="-384120">
              <a:spcBef>
                <a:spcPts val="2676"/>
              </a:spcBef>
              <a:buClr>
                <a:srgbClr val="000000"/>
              </a:buClr>
              <a:buFont typeface="Arial"/>
              <a:buChar char="»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09000"/>
            <a:ext cx="10078920" cy="5702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078000"/>
                <a:tab algn="l" pos="6156360"/>
                <a:tab algn="l" pos="923436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0720" y="9909000"/>
            <a:ext cx="13679280" cy="5702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0720" y="9909000"/>
            <a:ext cx="10078920" cy="5702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078000"/>
                <a:tab algn="l" pos="6156360"/>
                <a:tab algn="l" pos="923436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fld id="{AC259838-ECE1-4D43-94BE-2C9C2EB740CD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"/>
          <p:cNvPicPr/>
          <p:nvPr/>
        </p:nvPicPr>
        <p:blipFill>
          <a:blip r:embed="rId1"/>
          <a:stretch/>
        </p:blipFill>
        <p:spPr>
          <a:xfrm>
            <a:off x="-130320" y="-3753000"/>
            <a:ext cx="21629880" cy="14554440"/>
          </a:xfrm>
          <a:prstGeom prst="rect">
            <a:avLst/>
          </a:prstGeom>
          <a:ln w="0">
            <a:noFill/>
          </a:ln>
        </p:spPr>
      </p:pic>
      <p:pic>
        <p:nvPicPr>
          <p:cNvPr id="42" name="図 4" descr="ilm02_dd03021-s.png"/>
          <p:cNvPicPr/>
          <p:nvPr/>
        </p:nvPicPr>
        <p:blipFill>
          <a:blip r:embed="rId2"/>
          <a:stretch/>
        </p:blipFill>
        <p:spPr>
          <a:xfrm>
            <a:off x="16617960" y="3081240"/>
            <a:ext cx="6083280" cy="7156440"/>
          </a:xfrm>
          <a:prstGeom prst="rect">
            <a:avLst/>
          </a:prstGeom>
          <a:ln w="0">
            <a:noFill/>
          </a:ln>
        </p:spPr>
      </p:pic>
      <p:pic>
        <p:nvPicPr>
          <p:cNvPr id="43" name="テキスト ボックス 6" descr=""/>
          <p:cNvPicPr/>
          <p:nvPr/>
        </p:nvPicPr>
        <p:blipFill>
          <a:blip r:embed="rId3"/>
          <a:stretch/>
        </p:blipFill>
        <p:spPr>
          <a:xfrm>
            <a:off x="18957960" y="695160"/>
            <a:ext cx="27852480" cy="9302760"/>
          </a:xfrm>
          <a:prstGeom prst="rect">
            <a:avLst/>
          </a:prstGeom>
          <a:ln w="0">
            <a:noFill/>
          </a:ln>
        </p:spPr>
      </p:pic>
      <p:pic>
        <p:nvPicPr>
          <p:cNvPr id="44" name="テキスト ボックス 7" descr=""/>
          <p:cNvPicPr/>
          <p:nvPr/>
        </p:nvPicPr>
        <p:blipFill>
          <a:blip r:embed="rId4"/>
          <a:stretch/>
        </p:blipFill>
        <p:spPr>
          <a:xfrm>
            <a:off x="18957960" y="695160"/>
            <a:ext cx="27847800" cy="9277560"/>
          </a:xfrm>
          <a:prstGeom prst="rect">
            <a:avLst/>
          </a:prstGeom>
          <a:ln w="0">
            <a:noFill/>
          </a:ln>
        </p:spPr>
      </p:pic>
      <p:sp>
        <p:nvSpPr>
          <p:cNvPr id="45" name="テキスト ボックス 5"/>
          <p:cNvSpPr/>
          <p:nvPr/>
        </p:nvSpPr>
        <p:spPr>
          <a:xfrm>
            <a:off x="18951480" y="692280"/>
            <a:ext cx="27851040" cy="9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ja-JP" sz="19900" spc="-1" strike="noStrike">
                <a:solidFill>
                  <a:srgbClr val="ff0000"/>
                </a:solidFill>
                <a:latin typeface="A-OTF 新丸ゴ Pro U"/>
                <a:ea typeface="A-OTF 新丸ゴ Pro U"/>
              </a:rPr>
              <a:t>お</a:t>
            </a:r>
            <a:r>
              <a:rPr b="0" lang="ja-JP" sz="19900" spc="-1" strike="noStrike">
                <a:solidFill>
                  <a:srgbClr val="0000ff"/>
                </a:solidFill>
                <a:latin typeface="A-OTF 新丸ゴ Pro U"/>
                <a:ea typeface="A-OTF 新丸ゴ Pro U"/>
              </a:rPr>
              <a:t>誕</a:t>
            </a:r>
            <a:r>
              <a:rPr b="0" lang="ja-JP" sz="19900" spc="-1" strike="noStrike">
                <a:solidFill>
                  <a:srgbClr val="ff0066"/>
                </a:solidFill>
                <a:latin typeface="A-OTF 新丸ゴ Pro U"/>
                <a:ea typeface="A-OTF 新丸ゴ Pro U"/>
              </a:rPr>
              <a:t>生</a:t>
            </a:r>
            <a:r>
              <a:rPr b="0" lang="ja-JP" sz="19900" spc="-1" strike="noStrike">
                <a:solidFill>
                  <a:srgbClr val="92d050"/>
                </a:solidFill>
                <a:latin typeface="A-OTF 新丸ゴ Pro U"/>
                <a:ea typeface="A-OTF 新丸ゴ Pro U"/>
              </a:rPr>
              <a:t>日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ja-JP" sz="19900" spc="-1" strike="noStrike">
                <a:solidFill>
                  <a:srgbClr val="7030a0"/>
                </a:solidFill>
                <a:latin typeface="A-OTF 新丸ゴ Pro U"/>
                <a:ea typeface="A-OTF 新丸ゴ Pro U"/>
              </a:rPr>
              <a:t>パ</a:t>
            </a:r>
            <a:r>
              <a:rPr b="0" lang="ja-JP" sz="19900" spc="-1" strike="noStrike">
                <a:solidFill>
                  <a:srgbClr val="00b050"/>
                </a:solidFill>
                <a:latin typeface="A-OTF 新丸ゴ Pro U"/>
                <a:ea typeface="A-OTF 新丸ゴ Pro U"/>
              </a:rPr>
              <a:t>ー</a:t>
            </a:r>
            <a:r>
              <a:rPr b="0" lang="ja-JP" sz="19900" spc="-1" strike="noStrike">
                <a:solidFill>
                  <a:srgbClr val="ff6600"/>
                </a:solidFill>
                <a:latin typeface="A-OTF 新丸ゴ Pro U"/>
                <a:ea typeface="A-OTF 新丸ゴ Pro U"/>
              </a:rPr>
              <a:t>ティ</a:t>
            </a:r>
            <a:r>
              <a:rPr b="0" lang="ja-JP" sz="19900" spc="-1" strike="noStrike">
                <a:solidFill>
                  <a:srgbClr val="7030a0"/>
                </a:solidFill>
                <a:latin typeface="A-OTF 新丸ゴ Pro U"/>
                <a:ea typeface="A-OTF 新丸ゴ Pro U"/>
              </a:rPr>
              <a:t>ー</a:t>
            </a:r>
            <a:r>
              <a:rPr b="0" lang="ja-JP" sz="19900" spc="-1" strike="noStrike">
                <a:solidFill>
                  <a:srgbClr val="ff0000"/>
                </a:solidFill>
                <a:latin typeface="A-OTF 新丸ゴ Pro U"/>
                <a:ea typeface="A-OTF 新丸ゴ Pro U"/>
              </a:rPr>
              <a:t>に</a:t>
            </a:r>
            <a:r>
              <a:rPr b="0" lang="ja-JP" sz="19900" spc="-1" strike="noStrike">
                <a:solidFill>
                  <a:srgbClr val="00b050"/>
                </a:solidFill>
                <a:latin typeface="A-OTF 新丸ゴ Pro U"/>
                <a:ea typeface="A-OTF 新丸ゴ Pro U"/>
              </a:rPr>
              <a:t>は、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ja-JP" sz="19900" spc="-1" strike="noStrike">
                <a:solidFill>
                  <a:srgbClr val="0000ff"/>
                </a:solidFill>
                <a:latin typeface="A-OTF 新丸ゴ Pro U"/>
                <a:ea typeface="A-OTF 新丸ゴ Pro U"/>
              </a:rPr>
              <a:t>や</a:t>
            </a:r>
            <a:r>
              <a:rPr b="0" lang="ja-JP" sz="19900" spc="-1" strike="noStrike">
                <a:solidFill>
                  <a:srgbClr val="ff6600"/>
                </a:solidFill>
                <a:latin typeface="A-OTF 新丸ゴ Pro U"/>
                <a:ea typeface="A-OTF 新丸ゴ Pro U"/>
              </a:rPr>
              <a:t>っ</a:t>
            </a:r>
            <a:r>
              <a:rPr b="0" lang="ja-JP" sz="19900" spc="-1" strike="noStrike">
                <a:solidFill>
                  <a:srgbClr val="ff0000"/>
                </a:solidFill>
                <a:latin typeface="A-OTF 新丸ゴ Pro U"/>
                <a:ea typeface="A-OTF 新丸ゴ Pro U"/>
              </a:rPr>
              <a:t>ぱ</a:t>
            </a:r>
            <a:r>
              <a:rPr b="0" lang="ja-JP" sz="19900" spc="-1" strike="noStrike">
                <a:solidFill>
                  <a:srgbClr val="0000ff"/>
                </a:solidFill>
                <a:latin typeface="A-OTF 新丸ゴ Pro U"/>
                <a:ea typeface="A-OTF 新丸ゴ Pro U"/>
              </a:rPr>
              <a:t>り</a:t>
            </a:r>
            <a:r>
              <a:rPr b="0" lang="ja-JP" sz="19900" spc="-1" strike="noStrike">
                <a:solidFill>
                  <a:srgbClr val="92d050"/>
                </a:solidFill>
                <a:latin typeface="A-OTF 新丸ゴ Pro U"/>
                <a:ea typeface="A-OTF 新丸ゴ Pro U"/>
              </a:rPr>
              <a:t>ケ</a:t>
            </a:r>
            <a:r>
              <a:rPr b="0" lang="ja-JP" sz="19900" spc="-1" strike="noStrike">
                <a:solidFill>
                  <a:srgbClr val="ff0066"/>
                </a:solidFill>
                <a:latin typeface="A-OTF 新丸ゴ Pro U"/>
                <a:ea typeface="A-OTF 新丸ゴ Pro U"/>
              </a:rPr>
              <a:t>ー</a:t>
            </a:r>
            <a:r>
              <a:rPr b="0" lang="ja-JP" sz="19900" spc="-1" strike="noStrike">
                <a:solidFill>
                  <a:srgbClr val="ff6600"/>
                </a:solidFill>
                <a:latin typeface="A-OTF 新丸ゴ Pro U"/>
                <a:ea typeface="A-OTF 新丸ゴ Pro U"/>
              </a:rPr>
              <a:t>キ。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円/楕円 10"/>
          <p:cNvGrpSpPr/>
          <p:nvPr/>
        </p:nvGrpSpPr>
        <p:grpSpPr>
          <a:xfrm>
            <a:off x="38514240" y="347760"/>
            <a:ext cx="1878120" cy="1871640"/>
            <a:chOff x="38514240" y="347760"/>
            <a:chExt cx="1878120" cy="1871640"/>
          </a:xfrm>
        </p:grpSpPr>
        <p:pic>
          <p:nvPicPr>
            <p:cNvPr id="47" name="円/楕円 10" descr=""/>
            <p:cNvPicPr/>
            <p:nvPr/>
          </p:nvPicPr>
          <p:blipFill>
            <a:blip r:embed="rId5"/>
            <a:stretch/>
          </p:blipFill>
          <p:spPr>
            <a:xfrm>
              <a:off x="38514240" y="347760"/>
              <a:ext cx="18781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8792160" y="620640"/>
              <a:ext cx="132552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78000"/>
                  <a:tab algn="l" pos="6156360"/>
                  <a:tab algn="l" pos="923436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円/楕円 11"/>
          <p:cNvGrpSpPr/>
          <p:nvPr/>
        </p:nvGrpSpPr>
        <p:grpSpPr>
          <a:xfrm>
            <a:off x="22622040" y="2212920"/>
            <a:ext cx="1377720" cy="1384200"/>
            <a:chOff x="22622040" y="2212920"/>
            <a:chExt cx="1377720" cy="1384200"/>
          </a:xfrm>
        </p:grpSpPr>
        <p:pic>
          <p:nvPicPr>
            <p:cNvPr id="50" name="円/楕円 11" descr=""/>
            <p:cNvPicPr/>
            <p:nvPr/>
          </p:nvPicPr>
          <p:blipFill>
            <a:blip r:embed="rId6"/>
            <a:stretch/>
          </p:blipFill>
          <p:spPr>
            <a:xfrm>
              <a:off x="22622040" y="2212920"/>
              <a:ext cx="137772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823640" y="2417760"/>
              <a:ext cx="97452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78000"/>
                  <a:tab algn="l" pos="6156360"/>
                  <a:tab algn="l" pos="923436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円/楕円 17"/>
          <p:cNvGrpSpPr/>
          <p:nvPr/>
        </p:nvGrpSpPr>
        <p:grpSpPr>
          <a:xfrm>
            <a:off x="40763880" y="2571840"/>
            <a:ext cx="1438200" cy="1439640"/>
            <a:chOff x="40763880" y="2571840"/>
            <a:chExt cx="1438200" cy="1439640"/>
          </a:xfrm>
        </p:grpSpPr>
        <p:pic>
          <p:nvPicPr>
            <p:cNvPr id="53" name="円/楕円 17" descr=""/>
            <p:cNvPicPr/>
            <p:nvPr/>
          </p:nvPicPr>
          <p:blipFill>
            <a:blip r:embed="rId7"/>
            <a:stretch/>
          </p:blipFill>
          <p:spPr>
            <a:xfrm>
              <a:off x="40763880" y="2571840"/>
              <a:ext cx="143820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0974840" y="2781360"/>
              <a:ext cx="10191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78000"/>
                  <a:tab algn="l" pos="6156360"/>
                  <a:tab algn="l" pos="923436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円/楕円 18"/>
          <p:cNvGrpSpPr/>
          <p:nvPr/>
        </p:nvGrpSpPr>
        <p:grpSpPr>
          <a:xfrm>
            <a:off x="41526000" y="6937200"/>
            <a:ext cx="1353960" cy="1352880"/>
            <a:chOff x="41526000" y="6937200"/>
            <a:chExt cx="1353960" cy="1352880"/>
          </a:xfrm>
        </p:grpSpPr>
        <p:pic>
          <p:nvPicPr>
            <p:cNvPr id="56" name="円/楕円 18" descr=""/>
            <p:cNvPicPr/>
            <p:nvPr/>
          </p:nvPicPr>
          <p:blipFill>
            <a:blip r:embed="rId8"/>
            <a:stretch/>
          </p:blipFill>
          <p:spPr>
            <a:xfrm>
              <a:off x="41526000" y="6937200"/>
              <a:ext cx="1353960" cy="13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1725800" y="7132680"/>
              <a:ext cx="95724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78000"/>
                  <a:tab algn="l" pos="6156360"/>
                  <a:tab algn="l" pos="923436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円/楕円 19"/>
          <p:cNvGrpSpPr/>
          <p:nvPr/>
        </p:nvGrpSpPr>
        <p:grpSpPr>
          <a:xfrm>
            <a:off x="24572880" y="695160"/>
            <a:ext cx="1878120" cy="1876680"/>
            <a:chOff x="24572880" y="695160"/>
            <a:chExt cx="1878120" cy="1876680"/>
          </a:xfrm>
        </p:grpSpPr>
        <p:pic>
          <p:nvPicPr>
            <p:cNvPr id="59" name="円/楕円 19" descr=""/>
            <p:cNvPicPr/>
            <p:nvPr/>
          </p:nvPicPr>
          <p:blipFill>
            <a:blip r:embed="rId9"/>
            <a:stretch/>
          </p:blipFill>
          <p:spPr>
            <a:xfrm>
              <a:off x="24572880" y="695160"/>
              <a:ext cx="1878120" cy="187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4846120" y="968400"/>
              <a:ext cx="132876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78000"/>
                  <a:tab algn="l" pos="6156360"/>
                  <a:tab algn="l" pos="923436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図 24" descr=""/>
          <p:cNvPicPr/>
          <p:nvPr/>
        </p:nvPicPr>
        <p:blipFill>
          <a:blip r:embed="rId10"/>
          <a:stretch/>
        </p:blipFill>
        <p:spPr>
          <a:xfrm rot="20410200">
            <a:off x="12144240" y="1580760"/>
            <a:ext cx="9120240" cy="790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7:53:09Z</dcterms:created>
  <dc:creator>seisaku</dc:creator>
  <dc:description/>
  <dc:language>en-US</dc:language>
  <cp:lastModifiedBy>VISION</cp:lastModifiedBy>
  <cp:lastPrinted>2015-08-10T06:05:37Z</cp:lastPrinted>
  <dcterms:modified xsi:type="dcterms:W3CDTF">2015-09-24T00:43:05Z</dcterms:modified>
  <cp:revision>25</cp:revision>
  <dc:subject/>
  <dc:title>スライド 1</dc:title>
</cp:coreProperties>
</file>